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5EDA-1885-4AD4-85DE-BEED1FE9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00B3-D419-4844-9799-E4F7C729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EBF69-0074-4F0A-8BD6-677698AE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3C761-3DC4-4547-99A9-6B20E78E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29D7E-05DC-4290-96F5-10966FBE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D8EFC-C30E-44F1-8359-EF4EB079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60D95-2F2D-4EF8-B3C3-5DE8C123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705F4-61D6-4CF7-A2DB-47345E98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78BD2-A2B9-42E5-ACB1-C331F1B0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BD1FF-D02F-459D-8E4D-EAF81440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7982C-BBFC-4F4B-991E-BE11780D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61286-6E56-4289-B0FF-B10FA378F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35C6-7D80-4C46-BBA8-31CC6C53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EC945-CCEB-4846-8C4E-0D349AC0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C89B1-59C3-46A4-8A46-21D24918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A534D-5919-4C8F-A66F-E844C7F6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DD01E-23A7-478F-8E57-A42C3EEF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DB2D0-59A9-433B-B337-FAC87FD1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FBFC2-8365-49E1-83CE-FC5B8B9D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DC2135-6D3B-436C-8114-EBE0C404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DAD6D-BB97-4645-9D17-3F0BDBCA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6924A-5C88-48F2-B0BC-56AF48B4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0DE27-6A22-42C1-A886-240043BD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1FCA-BABB-4AC8-B4EF-E6DE649A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85129-9045-4C8E-8CDD-B3E060FF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5363D-CB16-40C1-B965-3BE9A775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8DC59-CA20-49E8-B1F0-36261911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D8305-9B4A-4C52-8890-D71CC5DC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54265-7708-445D-A91E-F3DBDDD7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3973C-ABE1-4FA3-827E-CDF53179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A4836-625E-4C5B-8956-298ACF1B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8F8E5-7631-4685-8723-0C4BE730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A753F-CDDC-4DE5-91CE-D8450EE1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96DA7-38E0-450A-AB4F-997B103B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1704-8945-4B34-BA6E-E0F82DCB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C7000-6A24-4768-A618-1B2F0E0C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0F941-729E-46A8-A903-EE06E35E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54721-A54E-4DB2-9432-D7468DDF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25032-9C51-4CB4-9010-F45F3C31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234FF-782C-4A88-8AA1-AE93787B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F6ED7-0A33-456F-A5F1-9942FF39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4048B-CD8F-4F08-860A-A12ECAFC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36ECC-A1C6-4FB5-B405-6915CDBD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FABFD-78A2-47DB-B239-490530EE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E356E-F5F4-4DB4-9BA6-DC325D14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F01D-4ABC-4919-91FB-7FFA458A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E5669-367D-4041-817C-3C147EBB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E0CA4-8C8B-4E2D-8CCC-0BF51589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8F1B1-FCBA-4251-A481-58510E38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4A246-45F2-4AB3-88BF-B4CC5803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7386F-D377-491C-B98E-68A34C31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037B6B-C67C-4B33-8826-A4794660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6949FD-7891-4CB1-92DB-FE41C2B1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178E18-113D-4A1A-AE97-711CC29D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942E6D-34D0-4B26-A166-4A03C52E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A4870D-1A90-4791-9C2C-5B1A7CF5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3C3C-BF41-4AB3-B2EF-9B5A2002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09176A-B9EC-4922-8D1F-9A8705D7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18336E-8E27-40F4-BA60-D6EF2CE1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4CED27-89CF-44E7-8599-836BD429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B90F50-3E72-458A-9537-6B0538F8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4F5BCB-3E2C-4FD6-BCE6-1444B9CC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BF9638-538F-43E3-B121-96DBF3C2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1E16DA-7966-412A-ACE0-F26175131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98DC-86D3-442C-AD6D-DEF7A600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4973-39C1-4060-B888-884B81EC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318F-35FA-4189-8284-325A3CAB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D271-E186-43E2-B83B-A1A531E0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2931-F96C-4327-9E77-BAE1428D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B906-A66B-4D9E-87EB-7A2ECA8F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036B-59E7-48BC-AB73-9BA9784B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22D4-6565-4472-8D55-2DCB9210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08F6-1DB1-4571-8197-E61095B5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7B14-70D0-46B5-84C0-C1C355CE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DB4F1-633C-4C16-8E33-9C91CFDF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396CD-6ED0-4B85-AF8A-394E434F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24334-AC58-4D1F-B02C-8829E2AF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5E2ED-F890-4BAE-A255-3C0DC2AF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AD2C3-424C-4C0B-9FB7-E845C950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3982-E780-4ACD-A528-590E3B33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8ED1A-F685-4EF6-BA4D-58EFF1B8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C7C82-8132-4921-BE62-8E8910B5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44B47-2570-453D-89A5-5262194C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83906-8769-4438-A54C-933C717A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0FC27-655E-41BB-8073-2749C5DB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C44E0-1528-4CA5-BE0D-7E047C91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0009A-71CF-4CF8-8BDA-DBBFA834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A3E83-9A5B-4FF6-A75C-559F8CA9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BF975-1DC8-4F54-A09B-F4579373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FD1EF-DD95-42B6-AECB-D784AB0F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97B1-F3A5-4B60-B231-7236B83B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B50A3-DA0E-402B-9255-88254312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D5B76-0160-42AB-99C7-356E68C0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6D8AC-8201-4F2B-AE93-613E9D67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2DEC9-1CDF-46BA-AA52-3CD7C5F0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E7633-B497-4805-BE54-1E86EF36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0274C-FDC6-4FE8-8FA9-0B8DFEE3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E71EF-1064-422E-92AF-7DCC2EE3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4E335-AF65-4EC2-AB78-53FA9DFA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65C74-8483-4688-9EE7-61C1C4C0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B8328-E4F2-4BCF-8FC8-C103EB34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EB9E-2160-410F-801B-99239233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EB151-6579-4CBD-9D36-71A32657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7D3BF-B04B-4DCF-B443-7A0379DF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692A3-A009-4CDB-8EE4-2E611572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890AE-980F-4E8F-9D75-4AAF53EB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AA59E-7A75-4DBA-9200-512FF21E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395E2-8381-4856-B02A-4139D1F0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09638-5F7E-455B-92F9-AA87FB76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B175C-2DFD-4333-B0F7-37FA3D86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A8A0B-C363-4075-97AA-ED697718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9B7D5-792C-4C87-B8FC-649A39C0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38B7-FF53-442D-85BE-CA4C64B3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A7FE8-25E6-4892-B19F-BA03FA27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0346D-0153-430C-B6F2-69D4C578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2742D-62DF-4E91-B14B-84709EE7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9FBFC-E24A-42F4-A763-7B8951BF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3A10E-EAAC-49F2-BEE1-AD9A58A6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86539-38C3-4346-8A12-2491B967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4A230-B38C-4B66-9E62-6B9CDAA2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AEBFD-BF56-4C7C-9850-755D8A1B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71D9C-4B1D-4685-816B-5AAB4847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FB825-EBD9-4658-8D2C-1AA4D4CF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7B5C-0C89-483B-8334-ECA8AF73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E2F9E-45FF-44F6-A3DD-ADA92F40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E286F-8531-4C79-9FDD-F340F51C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71E71-DA00-405B-9B94-B58453B7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78F6D-E8C7-496E-A754-7B592070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35F7A-6B94-43EA-B71E-96F6F894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4DA79-F60B-4C58-A91C-D28AC669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626AC-75F3-475C-B0A8-0EE27941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44CF7-4696-4AF2-8859-BE80B499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37638-D8FD-41F6-BB5C-0F594FF7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DD2AF-F666-4AE7-805B-DAFD67B0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7AC1-661F-4FC9-BFC5-008E6CEF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B3BB5-B296-431C-8368-E8EC4AA9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4BC8A-4026-49CF-BBC4-3B584316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7C456-66A2-41E0-9571-9D4C9CC6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FAEB4-214F-49EA-8C93-8DF97C1E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37737-232C-4D1E-9ADB-758B79E6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222A4-C0E1-42E6-9148-43B8D8EA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17C4D-68D7-4F3C-B049-D433A58D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A637F-BD21-48BE-843B-045483FB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DECE3-9759-4B4C-992F-DCA79EEE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8DDEF-3F00-4A3C-A7E6-40B53EA6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9DB0-8629-456D-9AED-F6FB2C9B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C6BE9-80E4-4895-9634-820FF45D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234D3-6175-4102-B991-B3438747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45FD7-8597-438E-AB9D-7870A5A8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C2DF9-378B-47E8-B9AB-D5A273A1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79D67-5272-4706-B84D-6E92CBD8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5D5F9-5391-47BE-AF60-8A2784E0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9857D-4431-405C-94C6-2BF9E347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0D1BF-5444-41A9-9846-D21BC322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8524A-6AB2-4512-9E17-8D6E0401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E90C9-DDF9-453F-8464-1A88707D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993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9938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9939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3" name="椭圆 39940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" name="椭圆 39941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" name="椭圆 39942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6" name="椭圆 39943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B8AB-4172-4B11-BE15-BB998A56320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6DE1-4759-42A8-BAF1-C93E9FFA349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7E6C-EEBB-4669-838F-EB1DECC5056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D1E4-EB02-4CE1-ADF3-F5FA607CDA7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C82D-4A7D-4B29-B1B8-F1A2C947DB7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40961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40962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0" name="椭圆 4096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1" name="椭圆 40964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2" name="椭圆 40965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3" name="椭圆 4096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4" name="椭圆 40967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F4EF-A40D-45B0-A55C-3E40A43A838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56B5-59CB-4086-A8A7-4018C148086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0900-529C-40D7-8804-F68597C99EE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3164-8BBB-44AC-AA62-76FCF7E224B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A3E8-5DB0-4100-B271-C56B9C496AE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1818-3538-4AA0-8A89-6866E8AB044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C5FB-86E1-498A-9553-CE87BC12C63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05C8-513F-410B-BD84-2A5F927D7AF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图片 5124" descr="呼唤星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行楷"/>
              </a:rPr>
              <a:t>第二次：三年前在南京读书时看繁星的情景和感受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星光在我们的肉眼里虽然微小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好像它们就是我的朋友，它们常常在和我谈话一样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这几句表达了作者与星星亲密、投机的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伙伴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之情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。也表现了作者对光明的追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行楷"/>
              </a:rPr>
              <a:t>第三次：如今在海上望星星的感受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0" y="2176560"/>
            <a:ext cx="89265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我望着那许多认识的星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我仿佛看见它们在对我霎眼，我仿佛听见它们在小声说话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现在睡在母亲的怀里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这里写出了无比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惬意、信赖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与星星的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知心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之情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从中我们可以感悟到作者的童心、童趣以及对大自然的热爱、对美好生活的向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3300"/>
                </a:solidFill>
                <a:latin typeface="Arial"/>
              </a:rPr>
              <a:t>三次看星感受不同的原因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96720" y="494172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随着作者年龄和生活阅历的增长，对星空的观察和感知也在逐步加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16387"/>
          <p:cNvSpPr/>
          <p:nvPr/>
        </p:nvSpPr>
        <p:spPr>
          <a:xfrm>
            <a:off x="900000" y="1268280"/>
            <a:ext cx="7561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从前在家乡－－作者还是一个儿童。对母亲极为依恋。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6" name="文本框 16388"/>
          <p:cNvSpPr/>
          <p:nvPr/>
        </p:nvSpPr>
        <p:spPr>
          <a:xfrm>
            <a:off x="828720" y="2421000"/>
            <a:ext cx="7632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三年前在南京－－作者当时十九岁，远离家乡，异地求学，渴望志同道合的朋友。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7" name="文本框 16389"/>
          <p:cNvSpPr/>
          <p:nvPr/>
        </p:nvSpPr>
        <p:spPr>
          <a:xfrm>
            <a:off x="900000" y="3573360"/>
            <a:ext cx="6913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今在海上－－作者是在去法国求学的途中，远离家乡，远离祖国。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3300"/>
                </a:solidFill>
                <a:latin typeface="Arial"/>
              </a:rPr>
              <a:t>我们一起来解决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76932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同学们还有哪些问题没有解决？提出来大家共同探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本节课我收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最大的是什么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巩固新知，当堂训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798984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繁星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作者是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---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原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-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字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-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现代著名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--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-----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他的作品主要有“爱情三部曲”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----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；“激流三部曲”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--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-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繁星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是他的一篇游记，从文学角度讲，体裁属于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-------------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将下列词语中的错别字改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半明半没    摇摇欲堕  星群密部  眼睛漠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背诵课文第三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课外作业，拓展延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繁星是常见的，而在作家的笔下却写得那么动人。假如让你以“繁星”为题作文，你将写些什么，怎样写呢？请同学们动手写一写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97964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0" lang="zh-CN" sz="8400" spc="-1" strike="noStrike">
                <a:solidFill>
                  <a:srgbClr val="ff3300"/>
                </a:solidFill>
                <a:latin typeface="Arial"/>
              </a:rPr>
              <a:t>繁   星</a:t>
            </a:r>
            <a:r>
              <a:rPr b="0" lang="en-US" sz="8400" spc="-1" strike="noStrike">
                <a:solidFill>
                  <a:srgbClr val="ff3300"/>
                </a:solidFill>
                <a:latin typeface="Arial"/>
              </a:rPr>
              <a:t>》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700360" y="306864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 u="sng">
                <a:solidFill>
                  <a:srgbClr val="0000ff"/>
                </a:solidFill>
                <a:uFillTx/>
                <a:latin typeface="Arial"/>
              </a:rPr>
              <a:t>第二课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阅读理解重点段落。继续学习排比、比喻等修辞手法的运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体会作者酷爱星天的深切感受，培养热爱大自然的思想感情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合作探究，解决疑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64720" y="2637000"/>
            <a:ext cx="827892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仰   望  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&gt;  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欲   睡  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&gt;  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沉  睡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—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句）     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—8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句）  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9—10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句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23555"/>
          <p:cNvSpPr/>
          <p:nvPr/>
        </p:nvSpPr>
        <p:spPr>
          <a:xfrm>
            <a:off x="1187280" y="162864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理清第三段写作思路：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矩形 6145"/>
          <p:cNvSpPr/>
          <p:nvPr/>
        </p:nvSpPr>
        <p:spPr>
          <a:xfrm>
            <a:off x="2895480" y="3962520"/>
            <a:ext cx="342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巴  金</a:t>
            </a:r>
            <a:endParaRPr b="0" lang="en-US" sz="6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51" name="矩形 6146"/>
          <p:cNvSpPr txBox="1"/>
          <p:nvPr/>
        </p:nvSpPr>
        <p:spPr>
          <a:xfrm>
            <a:off x="2057400" y="1295280"/>
            <a:ext cx="45720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cap="sq" w="12600">
                  <a:solidFill>
                    <a:srgbClr val="b2b2b2"/>
                  </a:solidFill>
                  <a:round/>
                </a:ln>
                <a:solidFill>
                  <a:srgbClr val="6767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繁   星</a:t>
            </a:r>
            <a:endParaRPr b="0" lang="en-US" sz="9600" spc="1" strike="noStrike">
              <a:ln cap="sq" w="12600">
                <a:solidFill>
                  <a:srgbClr val="b2b2b2"/>
                </a:solidFill>
                <a:round/>
              </a:ln>
              <a:solidFill>
                <a:srgbClr val="6767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、“渐渐地我的眼睛模糊了，我好像看见无数萤火虫在我的周围飞舞。”繁星与萤火虫有哪些相似点？这表明了繁星是怎样的情状？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24578"/>
          <p:cNvSpPr/>
          <p:nvPr/>
        </p:nvSpPr>
        <p:spPr>
          <a:xfrm>
            <a:off x="611280" y="1268280"/>
            <a:ext cx="748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　    “繁星”和“萤火虫”都在夜间能看见，都有光亮，。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情状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摇摇欲坠、闪烁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把繁星比作“无数萤火虫在我的周围飞舞”，十分生动形象，富有情趣。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</a:rPr>
              <a:t>、“在星的怀抱中我微笑着，我沉睡着。我觉得自己是一个孩子，现在睡在母亲的怀里了。”“我”既然“沉睡着”，怎么又“觉得”？这样写矛盾吗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不矛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自己已经不是小孩子了，只是感觉上仿佛回到了童年，所以用“觉得”二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、“看，那个巨人还在跑呢！”你是怎样理解这句话的？“那个巨人”指的是什么？</a:t>
            </a:r>
            <a:br>
              <a:rPr sz="34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一个“看”字，呼唤读者，感情上与读者直接交流，更能引起注意。       一个“呢”字，表示动作正在继续，显得更加生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   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那个巨人”指状如巨人的星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Arial"/>
                <a:ea typeface="黑体"/>
              </a:rPr>
              <a:t>二、作者把星天比作母亲，把星星比作朋友，并和它们说话，运用了哪些修辞手法？表达了一种什么样的感情？</a:t>
            </a:r>
            <a:br>
              <a:rPr sz="34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运用了比喻、拟人，使文章生动、形象的表达情感。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作者把星天比作母亲，是为了突出他看繁星时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温馨甜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感受；把星天比作朋友，是为了突出作者看繁星时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亲密和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感受，它们表达了作者对大自然的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热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情，对美好生活的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向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童心、童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减。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684000" y="1700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   “渐渐地我的眼睛模糊了，我好像看见无数萤火虫在我的周围飞舞。”（比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楷体_GB2312"/>
              </a:rPr>
              <a:t>　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将“我”的眼睛模糊时所见的无数星星摇摇欲坠的情态，比作“无数萤火虫在我的周围飞舞”，十分生动形象，富有情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28674"/>
          <p:cNvSpPr/>
          <p:nvPr/>
        </p:nvSpPr>
        <p:spPr>
          <a:xfrm>
            <a:off x="1692360" y="33336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划出文中的比喻、拟人、排比的语句，简单赏析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700" spc="-1" strike="noStrike">
                <a:solidFill>
                  <a:srgbClr val="ff3300"/>
                </a:solidFill>
                <a:latin typeface="Arial"/>
                <a:ea typeface="华文行楷"/>
              </a:rPr>
              <a:t>拟　人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55280" y="11966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   “我望着那许多认识的星，我仿佛看见它们在对我霎眼，我仿佛听见它们在小声说话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在作者眼里，天上的那许多认识的星星都有眼睛、有嘴巴、有思想，它们走近“我”，同“我”交谈。这样写，将“我”与大自然融为一体，使人如临其境，如闻其声，产生无穷的遐想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700" spc="-1" strike="noStrike">
                <a:solidFill>
                  <a:srgbClr val="ff3300"/>
                </a:solidFill>
                <a:latin typeface="Arial"/>
                <a:ea typeface="华文行楷"/>
              </a:rPr>
              <a:t>排　比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4000" y="11253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      “海上的夜是柔和的，是静寂的，是梦幻的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　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依次从触觉、听觉和幻觉的角度描写海上之夜令“我”产生的种种美感。由表及里，使读者受到强烈的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3300"/>
                </a:solidFill>
                <a:latin typeface="Arial"/>
              </a:rPr>
              <a:t>我们一起来解决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60320" y="1609560"/>
            <a:ext cx="769320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同学们还有哪些问题没有解决？提出来大家共同探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3716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本节课我收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最大的是</a:t>
            </a: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100" spc="-1" strike="noStrike">
                <a:solidFill>
                  <a:srgbClr val="0000ff"/>
                </a:solidFill>
                <a:latin typeface="Arial"/>
              </a:rPr>
              <a:t>、作者把星星、星空写得仿佛有生命似的，把这样的句子画出来，大声朗读，再想想为什么在作者心目中星星、星空会变得像有生命似的？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436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热爱星空，热爱大自然、在他的心目中，繁星是母亲，是朋友，繁星象征着光明，在星空下，他感觉温馨、亲切、甜蜜、惬意、所以星星、星空会变得像有生命似的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33795"/>
          <p:cNvSpPr/>
          <p:nvPr/>
        </p:nvSpPr>
        <p:spPr>
          <a:xfrm>
            <a:off x="3276720" y="5651640"/>
            <a:ext cx="21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34" name="矩形 33796"/>
          <p:cNvSpPr/>
          <p:nvPr/>
        </p:nvSpPr>
        <p:spPr>
          <a:xfrm>
            <a:off x="539640" y="189000"/>
            <a:ext cx="54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课堂练习</a:t>
            </a:r>
            <a:br>
              <a:rPr sz="3200"/>
            </a:b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907640" y="333360"/>
            <a:ext cx="4743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 u="sng">
                <a:solidFill>
                  <a:srgbClr val="ff3300"/>
                </a:solidFill>
                <a:uFillTx/>
                <a:latin typeface="Arial"/>
              </a:rPr>
              <a:t>走近作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黑体"/>
              </a:rPr>
              <a:t>巴金（</a:t>
            </a:r>
            <a:r>
              <a:rPr b="1" lang="en-US" sz="2800" spc="-1" strike="noStrike">
                <a:solidFill>
                  <a:srgbClr val="d9d8ec"/>
                </a:solidFill>
                <a:latin typeface="Arial"/>
                <a:ea typeface="黑体"/>
              </a:rPr>
              <a:t>1904—2005</a:t>
            </a:r>
            <a:r>
              <a:rPr b="1" lang="zh-CN" sz="2800" spc="-1" strike="noStrike">
                <a:solidFill>
                  <a:srgbClr val="d9d8ec"/>
                </a:solidFill>
                <a:latin typeface="Arial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代著名作家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小说家、散文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杰出的语言大师，原名李尧棠，字芾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作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长篇小说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爱情三部曲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雾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雨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激流三部曲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春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篇小说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憩园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寒夜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散文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保卫和平的人们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友谊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随想录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散文、小说、特写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新声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赞歌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还有不少短篇小说、童话、杂文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文本框 34817"/>
          <p:cNvSpPr/>
          <p:nvPr/>
        </p:nvSpPr>
        <p:spPr>
          <a:xfrm>
            <a:off x="6084720" y="76500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7272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星光在我们的肉眼里虽然微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而它使我们觉得光明无处不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星光微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却觉得光明无处不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文本框 34819"/>
          <p:cNvSpPr/>
          <p:nvPr/>
        </p:nvSpPr>
        <p:spPr>
          <a:xfrm>
            <a:off x="250920" y="2781360"/>
            <a:ext cx="68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38" name="文本框 34820"/>
          <p:cNvSpPr/>
          <p:nvPr/>
        </p:nvSpPr>
        <p:spPr>
          <a:xfrm>
            <a:off x="1116000" y="2565360"/>
            <a:ext cx="6012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因为作者当时很年轻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充满幻想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充满朝气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所以他在微小的星光中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觉得光明无处不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图片 35841" descr="200992816592555"/>
          <p:cNvPicPr/>
          <p:nvPr/>
        </p:nvPicPr>
        <p:blipFill>
          <a:blip r:embed="rId1"/>
          <a:stretch/>
        </p:blipFill>
        <p:spPr>
          <a:xfrm>
            <a:off x="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40" name="文本框 35842"/>
          <p:cNvSpPr/>
          <p:nvPr/>
        </p:nvSpPr>
        <p:spPr>
          <a:xfrm>
            <a:off x="900000" y="22050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作者重点描写的是第三次看繁星，那前两次的描写有什么作用？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41" name="文本框 35843"/>
          <p:cNvSpPr/>
          <p:nvPr/>
        </p:nvSpPr>
        <p:spPr>
          <a:xfrm>
            <a:off x="1116000" y="350028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前两次描写起铺垫作用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通过与前两次的对比，更能表达作者现在的感情。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五、课外作业，拓展延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巴金读过不少文学方面的书，认得一些星星，那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代初的事了。当今，人们对宇宙星空的探索不断深入。找有关的科技书或报刊读一读，约几个好朋友，晚上去观察星星，写写自己的体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ff"/>
                </a:solidFill>
                <a:latin typeface="Arial"/>
              </a:rPr>
              <a:t>写作背景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92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岁的巴金到了上海、南京，学习期间参加了一些社会活动，他的民主思想得到进一步发展。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927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，他乘法国邮船“昂热”号离沪赴法，在邮船航行期间，巴金撰写了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海行杂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8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则。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繁星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是其中的一篇游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文本框 9217"/>
          <p:cNvSpPr/>
          <p:nvPr/>
        </p:nvSpPr>
        <p:spPr>
          <a:xfrm>
            <a:off x="457200" y="45720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学习目标</a:t>
            </a:r>
            <a:endParaRPr b="0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57" name="文本框 9218"/>
          <p:cNvSpPr/>
          <p:nvPr/>
        </p:nvSpPr>
        <p:spPr>
          <a:xfrm>
            <a:off x="250920" y="1413000"/>
            <a:ext cx="53337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树立热爱大自然的思想，学会观察大自然。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并运用联想和想像来写景状物。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并运用比喻、拟人、排比等修辞手法。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558" name="图片 9219" descr="童趣图"/>
          <p:cNvPicPr/>
          <p:nvPr/>
        </p:nvPicPr>
        <p:blipFill>
          <a:blip r:embed="rId1"/>
          <a:stretch/>
        </p:blipFill>
        <p:spPr>
          <a:xfrm>
            <a:off x="3581280" y="2590920"/>
            <a:ext cx="55627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预习反馈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给划线字注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9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半明半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昧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      )      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眼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       )     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模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糊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      )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纳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      )    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摇摇欲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       )    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静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寂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       )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10243"/>
          <p:cNvSpPr/>
          <p:nvPr/>
        </p:nvSpPr>
        <p:spPr>
          <a:xfrm>
            <a:off x="2797200" y="256536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mè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ｉ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62" name="文本框 10244"/>
          <p:cNvSpPr/>
          <p:nvPr/>
        </p:nvSpPr>
        <p:spPr>
          <a:xfrm>
            <a:off x="5066640" y="2565360"/>
            <a:ext cx="7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s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à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63" name="文本框 10245"/>
          <p:cNvSpPr/>
          <p:nvPr/>
        </p:nvSpPr>
        <p:spPr>
          <a:xfrm>
            <a:off x="7477920" y="256536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ｍ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ó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64" name="文本框 10246"/>
          <p:cNvSpPr/>
          <p:nvPr/>
        </p:nvSpPr>
        <p:spPr>
          <a:xfrm>
            <a:off x="2077200" y="31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ｎ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à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65" name="文本框 10247"/>
          <p:cNvSpPr/>
          <p:nvPr/>
        </p:nvSpPr>
        <p:spPr>
          <a:xfrm>
            <a:off x="5003640" y="3213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z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u ì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66" name="文本框 10248"/>
          <p:cNvSpPr/>
          <p:nvPr/>
        </p:nvSpPr>
        <p:spPr>
          <a:xfrm>
            <a:off x="7477200" y="314172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ｊ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ì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云形标注 11265"/>
          <p:cNvSpPr/>
          <p:nvPr/>
        </p:nvSpPr>
        <p:spPr>
          <a:xfrm>
            <a:off x="0" y="0"/>
            <a:ext cx="2514600" cy="1600200"/>
          </a:xfrm>
          <a:prstGeom prst="cloudCallout">
            <a:avLst>
              <a:gd name="adj1" fmla="val 759"/>
              <a:gd name="adj2" fmla="val 57638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568" name="图片 11266" descr="main"/>
          <p:cNvPicPr/>
          <p:nvPr/>
        </p:nvPicPr>
        <p:blipFill>
          <a:blip r:embed="rId2"/>
          <a:stretch/>
        </p:blipFill>
        <p:spPr>
          <a:xfrm>
            <a:off x="5562720" y="4362480"/>
            <a:ext cx="3581280" cy="2495520"/>
          </a:xfrm>
          <a:prstGeom prst="rect">
            <a:avLst/>
          </a:prstGeom>
          <a:ln w="0">
            <a:noFill/>
          </a:ln>
        </p:spPr>
      </p:pic>
      <p:sp>
        <p:nvSpPr>
          <p:cNvPr id="569" name="文本框 11267"/>
          <p:cNvSpPr/>
          <p:nvPr/>
        </p:nvSpPr>
        <p:spPr>
          <a:xfrm>
            <a:off x="228600" y="1600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Times New Roman"/>
                <a:ea typeface="宋体"/>
              </a:rPr>
              <a:t>             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70" name="文本框 11268"/>
          <p:cNvSpPr/>
          <p:nvPr/>
        </p:nvSpPr>
        <p:spPr>
          <a:xfrm>
            <a:off x="755640" y="2133720"/>
            <a:ext cx="7812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快速朗读课文，思考巴金描写了几次欣赏繁星美景？这几次描写的内在顺序是什么？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71" name="文本框 11269"/>
          <p:cNvSpPr/>
          <p:nvPr/>
        </p:nvSpPr>
        <p:spPr>
          <a:xfrm>
            <a:off x="304920" y="457200"/>
            <a:ext cx="26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整体感知：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72" name="文本框 11270"/>
          <p:cNvSpPr/>
          <p:nvPr/>
        </p:nvSpPr>
        <p:spPr>
          <a:xfrm>
            <a:off x="684360" y="4005360"/>
            <a:ext cx="61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三次       时间顺序</a:t>
            </a:r>
            <a:endParaRPr b="0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文本框 12289"/>
          <p:cNvSpPr/>
          <p:nvPr/>
        </p:nvSpPr>
        <p:spPr>
          <a:xfrm>
            <a:off x="457200" y="5335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讨论学习</a:t>
            </a:r>
            <a:endParaRPr b="0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74" name="文本框 12290"/>
          <p:cNvSpPr/>
          <p:nvPr/>
        </p:nvSpPr>
        <p:spPr>
          <a:xfrm>
            <a:off x="0" y="1557360"/>
            <a:ext cx="90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8ec"/>
                </a:solidFill>
                <a:latin typeface="Times New Roman"/>
                <a:ea typeface="黑体"/>
              </a:rPr>
              <a:t>细读课文，找出文中三次看星的时间、地点、感受的词句。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228600" y="2276640"/>
          <a:ext cx="8915400" cy="3933720"/>
        </p:xfrm>
        <a:graphic>
          <a:graphicData uri="http://schemas.openxmlformats.org/drawingml/2006/table">
            <a:tbl>
              <a:tblPr/>
              <a:tblGrid>
                <a:gridCol w="914400"/>
                <a:gridCol w="1371600"/>
                <a:gridCol w="1295280"/>
                <a:gridCol w="533412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时 间</a:t>
                      </a: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地  点</a:t>
                      </a: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感        受</a:t>
                      </a:r>
                      <a:endParaRPr b="0" lang="en-US" sz="32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一                    次</a:t>
                      </a:r>
                      <a:endParaRPr b="0" lang="en-US" sz="2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二次</a:t>
                      </a:r>
                      <a:endParaRPr b="0" lang="en-US" sz="2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三次</a:t>
                      </a:r>
                      <a:endParaRPr b="0" lang="en-US" sz="28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6" name="文本框 12318"/>
          <p:cNvSpPr/>
          <p:nvPr/>
        </p:nvSpPr>
        <p:spPr>
          <a:xfrm>
            <a:off x="1116000" y="3213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从前七八月的夜晚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77" name="文本框 12319"/>
          <p:cNvSpPr/>
          <p:nvPr/>
        </p:nvSpPr>
        <p:spPr>
          <a:xfrm>
            <a:off x="1116000" y="429264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年前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78" name="文本框 12320"/>
          <p:cNvSpPr/>
          <p:nvPr/>
        </p:nvSpPr>
        <p:spPr>
          <a:xfrm>
            <a:off x="1258920" y="52293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 今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79" name="文本框 12321"/>
          <p:cNvSpPr/>
          <p:nvPr/>
        </p:nvSpPr>
        <p:spPr>
          <a:xfrm>
            <a:off x="2484360" y="32846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家乡庭院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0" name="文本框 12322"/>
          <p:cNvSpPr/>
          <p:nvPr/>
        </p:nvSpPr>
        <p:spPr>
          <a:xfrm>
            <a:off x="2411280" y="42926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南京菜园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1" name="文本框 12323"/>
          <p:cNvSpPr/>
          <p:nvPr/>
        </p:nvSpPr>
        <p:spPr>
          <a:xfrm>
            <a:off x="2700360" y="53006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海  上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2" name="文本框 12324"/>
          <p:cNvSpPr/>
          <p:nvPr/>
        </p:nvSpPr>
        <p:spPr>
          <a:xfrm>
            <a:off x="3851280" y="3213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望着星天，我就会忘记一切，仿佛回到了母亲的怀里似的。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3" name="文本框 12325"/>
          <p:cNvSpPr/>
          <p:nvPr/>
        </p:nvSpPr>
        <p:spPr>
          <a:xfrm>
            <a:off x="3851280" y="4149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星光在我们的肉眼里虽然微小，然而它使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它们常常在和我谈话一样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4" name="文本框 12326"/>
          <p:cNvSpPr/>
          <p:nvPr/>
        </p:nvSpPr>
        <p:spPr>
          <a:xfrm>
            <a:off x="3851280" y="522936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我望着那许多认识的星，我仿佛看见它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现在睡在母亲的怀里了。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8000" y="134136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华文行楷"/>
              </a:rPr>
              <a:t>第一次：从前在家乡观星天的情景和感受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08000" y="2637000"/>
            <a:ext cx="5943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   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望着星天，我就会忘记一切，仿佛回到了母亲的怀里似的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这里表达了作者望星天所产生的甜蜜、温馨之感和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隶书"/>
              </a:rPr>
              <a:t>依恋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隶书"/>
              </a:rPr>
              <a:t>之情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图片 13315" descr="童趣观星图"/>
          <p:cNvPicPr/>
          <p:nvPr/>
        </p:nvPicPr>
        <p:blipFill>
          <a:blip r:embed="rId1"/>
          <a:stretch/>
        </p:blipFill>
        <p:spPr>
          <a:xfrm>
            <a:off x="3429000" y="2692440"/>
            <a:ext cx="5715000" cy="4165560"/>
          </a:xfrm>
          <a:prstGeom prst="rect">
            <a:avLst/>
          </a:prstGeom>
          <a:ln w="0">
            <a:noFill/>
          </a:ln>
        </p:spPr>
      </p:pic>
      <p:sp>
        <p:nvSpPr>
          <p:cNvPr id="588" name="文本框 13316"/>
          <p:cNvSpPr/>
          <p:nvPr/>
        </p:nvSpPr>
        <p:spPr>
          <a:xfrm>
            <a:off x="252360" y="11736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情感探究</a:t>
            </a:r>
            <a:endParaRPr b="0" lang="en-US" sz="5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03:43:44Z</dcterms:created>
  <dc:creator/>
  <dc:description/>
  <dc:language>en-US</dc:language>
  <cp:lastModifiedBy>万润仪器贸易公司</cp:lastModifiedBy>
  <dcterms:modified xsi:type="dcterms:W3CDTF">2020-08-24T03:34:24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